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notesSlide30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36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4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8.gif" ContentType="image/gif"/>
  <Override PartName="/ppt/media/image11.wmf" ContentType="image/x-wmf"/>
  <Override PartName="/ppt/media/image3.png" ContentType="image/png"/>
  <Override PartName="/ppt/media/image23.gif" ContentType="image/gif"/>
  <Override PartName="/ppt/media/image20.png" ContentType="image/png"/>
  <Override PartName="/ppt/media/image17.gif" ContentType="image/gif"/>
  <Override PartName="/ppt/media/image18.gif" ContentType="image/gif"/>
  <Override PartName="/ppt/media/image21.png" ContentType="image/png"/>
  <Override PartName="/ppt/media/image19.png" ContentType="image/png"/>
  <Override PartName="/ppt/media/image16.jpeg" ContentType="image/jpeg"/>
  <Override PartName="/ppt/media/image10.png" ContentType="image/png"/>
  <Override PartName="/ppt/media/image7.png" ContentType="image/png"/>
  <Override PartName="/ppt/media/image15.wmf" ContentType="image/x-wmf"/>
  <Override PartName="/ppt/media/image1.jpeg" ContentType="image/jpeg"/>
  <Override PartName="/ppt/media/image22.gif" ContentType="image/gif"/>
  <Override PartName="/ppt/media/image2.png" ContentType="image/png"/>
  <Override PartName="/ppt/media/image14.wmf" ContentType="image/x-wmf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981B-F9CF-4450-B6B3-B50E9C236FFF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We insist on / upon self-reliance.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我们坚持自力更生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Not a word fell from her lips. She fell silent agai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一声不吭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又陷入沉默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She could not suffer criticis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受不了批评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Her hair's going gre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她的头发变为灰白色了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The old lady will go nuts if still no news comes from her s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假如还是没有她儿子的消息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老太太可真要发疯了。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40274-9499-465F-A7B4-BCF182296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2664-AA1D-4C1B-9FF6-B8A9A423B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13DB-C8EE-41C1-B973-B1B59C121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F9526-F797-4D28-BA01-54E8E3B3F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1A477-6618-43B6-918A-0B3CB6A637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A0A00-E19D-49AA-BB9D-160508A95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46111-2570-4ADC-B7BA-FC7510D78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36E2-0E26-4860-AF12-F4B98A88F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F62A-2F5B-4E7D-9A6C-1EF19D49C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11A7-15DE-4808-BEEB-668E7040A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9F781-8EF7-46F5-90E0-18D67853B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DEFB-63A4-4E2D-B061-F36FC9FEB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1163-C7D3-4F1F-9B5B-5BA1C6A5F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F08FD-0260-43C7-8D53-476BA7C2A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B629C-4862-4EAA-9F2F-0583DB1FC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8D8A8-41A1-4DC6-AF91-37F947231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6E15-E458-4915-A755-FBD7B36DE9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1A1E-CC81-4439-BDDA-94E067F98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DE8F-C0A6-4B26-9A80-D750DF05D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F607-4791-4A6E-81A4-4BB9F3F7A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198C8-FDC4-4E8B-9026-D4CA27732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99FBD-B9DE-4F51-9250-D36B9C31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B5300-2AD2-4137-939D-9041E1F71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35D86-E2F5-441E-9F90-D7B2EE06F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4B43-C54A-45EE-9940-406BD86685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B18D3-2EDF-47A0-8F9D-40718EA48D2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58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33.xml"/><Relationship Id="rId3" Type="http://schemas.openxmlformats.org/officeDocument/2006/relationships/image" Target="../media/image22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3.wmf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14.wmf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228600" y="1295280"/>
            <a:ext cx="8686800" cy="29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3300"/>
                </a:solidFill>
                <a:latin typeface="Times New Roman"/>
              </a:rPr>
              <a:t>Lesson 5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New Words and Expression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oatma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oldi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naval offic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is cousin is a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ailo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. He is doing well in the navy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HH01669_" descr=""/>
          <p:cNvPicPr/>
          <p:nvPr/>
        </p:nvPicPr>
        <p:blipFill>
          <a:blip r:embed="rId5"/>
          <a:stretch/>
        </p:blipFill>
        <p:spPr>
          <a:xfrm>
            <a:off x="5486400" y="3200400"/>
            <a:ext cx="114948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0"/>
            <a:ext cx="9144000" cy="63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Lesson 5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tep 1: Lead 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was his nationality? 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we call him “Captain”, what do you think of his job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country did he discover?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 you know that there is a famous strait called “Cook Strait”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724280" y="1752480"/>
            <a:ext cx="419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Englis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31240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Sailo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3733920"/>
            <a:ext cx="32004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Australi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bgb3u21" descr=""/>
          <p:cNvPicPr/>
          <p:nvPr/>
        </p:nvPicPr>
        <p:blipFill>
          <a:blip r:embed="rId2"/>
          <a:stretch/>
        </p:blipFill>
        <p:spPr>
          <a:xfrm>
            <a:off x="6705720" y="0"/>
            <a:ext cx="243828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0" y="44280"/>
            <a:ext cx="9144000" cy="1068840"/>
          </a:xfrm>
          <a:prstGeom prst="rect">
            <a:avLst/>
          </a:prstGeom>
          <a:solidFill>
            <a:srgbClr val="a7cc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Listen to the tape and tell whether these sentences are true or fals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1071720"/>
            <a:ext cx="8820360" cy="58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Captain Cook insisted on taking live animals because he liked them very much.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The ENDEAVOUR was a strong and fast ship which also had plenty of space below for storing things.  (    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Cook suggested taking a lot of vinegar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or cleaning the inside of the ship.(   )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f.gif (15087 bytes)"/>
          <p:cNvPicPr/>
          <p:nvPr/>
        </p:nvPicPr>
        <p:blipFill>
          <a:blip r:embed="rId2"/>
          <a:stretch/>
        </p:blipFill>
        <p:spPr>
          <a:xfrm>
            <a:off x="395280" y="23288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f.gif (15087 bytes)"/>
          <p:cNvPicPr/>
          <p:nvPr/>
        </p:nvPicPr>
        <p:blipFill>
          <a:blip r:embed="rId3"/>
          <a:stretch/>
        </p:blipFill>
        <p:spPr>
          <a:xfrm>
            <a:off x="4094280" y="4292640"/>
            <a:ext cx="693720" cy="43344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t.gif (13807 bytes)"/>
          <p:cNvPicPr/>
          <p:nvPr/>
        </p:nvPicPr>
        <p:blipFill>
          <a:blip r:embed="rId4"/>
          <a:stretch/>
        </p:blipFill>
        <p:spPr>
          <a:xfrm>
            <a:off x="8317080" y="5877000"/>
            <a:ext cx="704520" cy="4413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98440"/>
            <a:ext cx="8915400" cy="703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Times New Roman"/>
              </a:rPr>
              <a:t>Step 2 liste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sten to  the dialogue and find out: </a:t>
            </a:r>
            <a:r>
              <a:rPr b="0" lang="en-US" sz="4400" spc="-1" strike="noStrike">
                <a:solidFill>
                  <a:srgbClr val="0000ff"/>
                </a:solidFill>
                <a:latin typeface="Times New Roman"/>
              </a:rPr>
              <a:t>What are they going to take with them for this long journey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      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1.Food,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buClr>
                <a:srgbClr val="0033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live anim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3. cabbage in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Times New Roman"/>
              </a:rPr>
              <a:t>4. vinega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ctr">
              <a:lnSpc>
                <a:spcPct val="7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0" y="685800"/>
            <a:ext cx="9144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</a:rPr>
              <a:t>Why are they going to take all these things with them for this long journey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od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Vinegar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abbage in vinega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Live anima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19320" y="1905120"/>
            <a:ext cx="4647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them to 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52480" y="2666880"/>
            <a:ext cx="46483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 the inside of the sh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335268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ep them 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09680" y="4191120"/>
            <a:ext cx="708660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igs: provide them with meat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eep :  provide them with meat.  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) chickens:  provide them with eggs and me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ff"/>
                </a:solidFill>
                <a:latin typeface="Times New Roman"/>
              </a:rPr>
              <a:t>Step3 Practice:</a:t>
            </a: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read the dialogue in pairs. </a:t>
            </a:r>
            <a:br>
              <a:rPr sz="6600"/>
            </a:br>
            <a:br>
              <a:rPr sz="3200"/>
            </a:b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3505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Microsoft Sans Serif"/>
              </a:rPr>
              <a:t>What is Captain Cook talking about to the seama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"/>
          <p:cNvSpPr/>
          <p:nvPr/>
        </p:nvSpPr>
        <p:spPr>
          <a:xfrm>
            <a:off x="990720" y="5181480"/>
            <a:ext cx="71625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Microsoft Sans Serif"/>
              </a:rPr>
              <a:t>what stores Captain Cook wants the seaman to ord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2. Why does Captain Cook insist on taking some live animals for their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"/>
          <p:cNvSpPr/>
          <p:nvPr/>
        </p:nvSpPr>
        <p:spPr>
          <a:xfrm>
            <a:off x="1828800" y="4343400"/>
            <a:ext cx="632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the men often fall ill and suffer fev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3. What other food will they take for this expedition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"/>
          <p:cNvSpPr/>
          <p:nvPr/>
        </p:nvSpPr>
        <p:spPr>
          <a:xfrm>
            <a:off x="1676520" y="3657600"/>
            <a:ext cx="685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a lot of cabbage in vinega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4. Why does Captain Cook want the cabbage to be kept in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4191120"/>
            <a:ext cx="6705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Because eating cabbage will keep them healthy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5. What kind of ship are they going to take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"/>
          <p:cNvSpPr/>
          <p:nvPr/>
        </p:nvSpPr>
        <p:spPr>
          <a:xfrm>
            <a:off x="1828800" y="3733920"/>
            <a:ext cx="6477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take the Endeavou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48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1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62120" y="3581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A journey undertaken by a group of people with a definite objective: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1905120" y="5638680"/>
            <a:ext cx="4800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Lucida Sans Unicode"/>
              </a:rPr>
              <a:t>expedition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4.gif (56554 字节)"/>
          <p:cNvPicPr/>
          <p:nvPr/>
        </p:nvPicPr>
        <p:blipFill>
          <a:blip r:embed="rId3"/>
          <a:stretch/>
        </p:blipFill>
        <p:spPr>
          <a:xfrm>
            <a:off x="1600200" y="762120"/>
            <a:ext cx="5761080" cy="28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599840" y="2282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Questions in detai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23520" y="15238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6. Why does Captain Cook suggest taking a lot of vinegar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7" name=""/>
          <p:cNvSpPr/>
          <p:nvPr/>
        </p:nvSpPr>
        <p:spPr>
          <a:xfrm>
            <a:off x="1752480" y="3809880"/>
            <a:ext cx="7010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They’ll use it for cleaning the inside of the ship. If they do this, they’ll have less sicknes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Step 4 Find the sentences or phras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t is very important that we tak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It is very important that we take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ahoma"/>
              </a:rPr>
              <a:t>have a fever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"/>
          <p:cNvSpPr/>
          <p:nvPr/>
        </p:nvSpPr>
        <p:spPr>
          <a:xfrm>
            <a:off x="1676520" y="327672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I insist on tak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4800600"/>
            <a:ext cx="58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suffer fev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that we would throw away if we did not have the animal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I shall order them to (eat it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"/>
          <p:cNvSpPr/>
          <p:nvPr/>
        </p:nvSpPr>
        <p:spPr>
          <a:xfrm>
            <a:off x="2133720" y="3200400"/>
            <a:ext cx="6476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that we would otherwise throw awa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33720" y="518148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ahoma"/>
              </a:rPr>
              <a:t>I shall insist that they d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try har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10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A lot of room below the deck for putting stores of food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1447920" y="1219320"/>
            <a:ext cx="6019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Tahoma"/>
              </a:rPr>
              <a:t>endeavou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4419720"/>
            <a:ext cx="78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a lot of room below for stor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457200" y="380880"/>
            <a:ext cx="822960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Step5.key words and phrase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expedition,insist on doing,suffer fever,live animals,hear of sth,keep sb healthy,suggest do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4191120"/>
            <a:ext cx="7620120" cy="239904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Step 6:Language point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0" y="83808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※ 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prepare for =get ready for=make preparation for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而准备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2514600"/>
            <a:ext cx="8229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Monotype Corsiva"/>
              </a:rPr>
              <a:t>What special present do you prepare for Teachers’ Day</a:t>
            </a:r>
            <a:r>
              <a:rPr b="0" lang="zh-CN" sz="4400" spc="-1" strike="noStrike">
                <a:solidFill>
                  <a:srgbClr val="ff3300"/>
                </a:solidFill>
                <a:latin typeface="Monotype Corsiva"/>
              </a:rPr>
              <a:t>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403848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7c80"/>
                </a:solidFill>
                <a:latin typeface="Times New Roman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be prepared for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 ---  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为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</a:rPr>
              <a:t>做好准备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80880" y="525780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n expedition to the Pacific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0" y="44197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3.Have you decided which boat to take, sir?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某个范围内选择一个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hic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4.keep them healthy. Healthy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为形容词作宾补，对宾语进行补充说明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36440"/>
            <a:ext cx="9144000" cy="50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tore     1)n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They took enough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with them for the long journe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)vt.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储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You can store the numbers into  your telephone so that you won’t have to dial them one by one next tim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304920"/>
            <a:ext cx="9144000" cy="63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order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）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vt./n----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订购，订单，点菜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I have ordered beaf for supper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company received an order of 500 computers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2) vt./n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命令 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sb to do sth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Don’t order me to do anything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manager ordered that everyone 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) work extra hours this wee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The army received an order that they</a:t>
            </a:r>
            <a:r>
              <a:rPr b="0" lang="zh-CN" sz="3000" spc="-1" strike="noStrike">
                <a:solidFill>
                  <a:srgbClr val="ff3399"/>
                </a:solidFill>
                <a:latin typeface="Times New Roman"/>
              </a:rPr>
              <a:t>(</a:t>
            </a:r>
            <a:r>
              <a:rPr b="0" lang="zh-CN" sz="3000" spc="-1" strike="noStrike">
                <a:solidFill>
                  <a:srgbClr val="ff3300"/>
                </a:solidFill>
                <a:latin typeface="Times New Roman"/>
              </a:rPr>
              <a:t>should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 )set off before daybreak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3) n.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次序，状况 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in order   ;out of order ;in the</a:t>
            </a:r>
            <a:r>
              <a:rPr b="1" lang="zh-CN" sz="30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0" lang="zh-CN" sz="3000" spc="-1" strike="noStrike">
                <a:solidFill>
                  <a:srgbClr val="0000ff"/>
                </a:solidFill>
                <a:latin typeface="Times New Roman"/>
              </a:rPr>
              <a:t>order of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insist on</a:t>
            </a:r>
            <a:r>
              <a:rPr b="1" lang="zh-CN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taking proper food for this expedition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3352680" y="3276720"/>
            <a:ext cx="4114800" cy="2743200"/>
          </a:xfrm>
          <a:prstGeom prst="cloudCallout">
            <a:avLst>
              <a:gd name="adj1" fmla="val -56750"/>
              <a:gd name="adj2" fmla="val -130324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insist on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th. / do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坚持……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Tahoma"/>
              </a:rPr>
              <a:t>Definition 2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Supplies, especially of food, clothing, or arms.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666880" y="4191120"/>
            <a:ext cx="4496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store  (</a:t>
            </a:r>
            <a:r>
              <a:rPr b="1" i="1" lang="en-US" sz="6000" spc="-1" strike="noStrike">
                <a:solidFill>
                  <a:srgbClr val="ff3300"/>
                </a:solidFill>
                <a:latin typeface="Microsoft Sans Serif"/>
              </a:rPr>
              <a:t>n</a:t>
            </a:r>
            <a:r>
              <a:rPr b="1" lang="en-US" sz="6000" spc="-1" strike="noStrike">
                <a:solidFill>
                  <a:srgbClr val="ff3300"/>
                </a:solidFill>
                <a:latin typeface="Microsoft Sans Serif"/>
              </a:rPr>
              <a:t>.)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76312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on sth. / doing sth.</a:t>
            </a:r>
            <a:br>
              <a:rPr sz="3200"/>
            </a:br>
            <a:r>
              <a:rPr b="1" i="1" lang="zh-CN" sz="3200" spc="-1" strike="noStrike">
                <a:solidFill>
                  <a:srgbClr val="0000cc"/>
                </a:solidFill>
                <a:latin typeface="Times New Roman"/>
              </a:rPr>
              <a:t>insist that … (should) do sth.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nsist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表示“坚持”别人</a:t>
            </a:r>
            <a:r>
              <a:rPr b="0" lang="zh-CN" sz="3200" spc="-1" strike="noStrike">
                <a:solidFill>
                  <a:srgbClr val="ff3300"/>
                </a:solidFill>
                <a:latin typeface="Times New Roman"/>
              </a:rPr>
              <a:t>应该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做某事，用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should do,should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可省略。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insist on taking proper food for this expedition. </a:t>
            </a: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I shall insist that they do from now on.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4560" y="327672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on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her staying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at hom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 on / upon self-relianc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e all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 tha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we not rest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until we finish the 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y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insisted that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he </a:t>
            </a:r>
            <a:r>
              <a:rPr b="1" i="1" lang="en-US" sz="3200" spc="-1" strike="noStrike">
                <a:solidFill>
                  <a:srgbClr val="ff3300"/>
                </a:solidFill>
                <a:latin typeface="Times New Roman"/>
              </a:rPr>
              <a:t>(should) be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invite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cc"/>
                </a:solidFill>
                <a:latin typeface="Times New Roman"/>
              </a:rPr>
              <a:t>He insisted that he had paid the bill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476280"/>
            <a:ext cx="7416720" cy="155628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常用此句型中的动词：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ggest, propose,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建议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order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命令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require, command, demand, desire, request,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要求，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advise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忠告 如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2698920"/>
            <a:ext cx="856908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e 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suggests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that Mary do more practi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His</a:t>
            </a:r>
            <a:r>
              <a:rPr b="1" lang="zh-CN" sz="3200" spc="-1" strike="noStrike" u="sng">
                <a:solidFill>
                  <a:srgbClr val="003300"/>
                </a:solidFill>
                <a:uFillTx/>
                <a:latin typeface="Comic Sans MS"/>
              </a:rPr>
              <a:t> suggestion</a:t>
            </a: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 is that Mary do mo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Comic Sans MS"/>
              </a:rPr>
              <a:t>practice.</a:t>
            </a:r>
            <a:r>
              <a:rPr b="1" lang="zh-CN" sz="3200" spc="-1" strike="noStrike">
                <a:solidFill>
                  <a:srgbClr val="660066"/>
                </a:solidFill>
                <a:latin typeface="Comic Sans MS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Comic Sans MS"/>
              </a:rPr>
              <a:t>他建议玛丽多做练习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95280" y="549360"/>
            <a:ext cx="806436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. I insist that you _____________ (use) a dictionar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. He insisted that he _____________  (not tell) a li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. He suggested _____ (go) to the concert with me and I thought his expression suggested he _____ (be) really interested in it.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140360" y="61740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should use/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4714920" y="1986120"/>
            <a:ext cx="32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didn’t t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635280" y="3284640"/>
            <a:ext cx="14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go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292720" y="4437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Comic Sans MS"/>
              </a:rPr>
              <a:t>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8604360" y="6165720"/>
            <a:ext cx="43164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2. The men often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fall ill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nd suffer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438280"/>
            <a:ext cx="3505320" cy="1981440"/>
          </a:xfrm>
          <a:prstGeom prst="cloudCallout">
            <a:avLst>
              <a:gd name="adj1" fmla="val 53351"/>
              <a:gd name="adj2" fmla="val -121393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become  ill; be il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fall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为系动词，表示“进入某种状态”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371240" y="220968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st night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ill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rom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on they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asleep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t a word fell from her lips. She </a:t>
            </a:r>
            <a:r>
              <a:rPr b="1" i="1" lang="en-US" sz="3200" spc="-1" strike="noStrike">
                <a:solidFill>
                  <a:srgbClr val="ff3300"/>
                </a:solidFill>
                <a:latin typeface="Arial"/>
              </a:rPr>
              <a:t>fell silen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g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3. The men often fall ill and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suffer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fever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"/>
          <p:cNvSpPr/>
          <p:nvPr/>
        </p:nvSpPr>
        <p:spPr>
          <a:xfrm>
            <a:off x="3200400" y="3124080"/>
            <a:ext cx="4343400" cy="1828800"/>
          </a:xfrm>
          <a:prstGeom prst="cloudCallout">
            <a:avLst>
              <a:gd name="adj1" fmla="val -73611"/>
              <a:gd name="adj2" fmla="val -120138"/>
            </a:avLst>
          </a:prstGeom>
          <a:solidFill>
            <a:srgbClr val="a7ccd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suffer sth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受……之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suffer sth.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could no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criticism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When my father was a child, 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hunger and col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a serous disease as a result of overwork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Ms King’s legs were badly hurt and 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suffered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great pai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00"/>
                </a:solidFill>
                <a:latin typeface="Tahoma"/>
              </a:rPr>
              <a:t>suffer from</a:t>
            </a:r>
            <a:r>
              <a:rPr b="1" i="1" lang="zh-CN" sz="4800" spc="-1" strike="noStrike">
                <a:solidFill>
                  <a:srgbClr val="000000"/>
                </a:solidFill>
                <a:latin typeface="Tahoma"/>
                <a:ea typeface="华文新魏"/>
              </a:rPr>
              <a:t>因…而受苦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He i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 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toothach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The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ed</a:t>
            </a:r>
            <a:r>
              <a:rPr b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greatly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overwor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-267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We learned that he was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suffering</a:t>
            </a:r>
            <a:r>
              <a:rPr b="1" i="1" lang="zh-CN" sz="2800" spc="-1" strike="noStrike">
                <a:solidFill>
                  <a:srgbClr val="c7c7df"/>
                </a:solidFill>
                <a:latin typeface="Tahoma"/>
              </a:rPr>
              <a:t>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</a:rPr>
              <a:t>from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 canc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live  [lɑiv]          adj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活的；现场直播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7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                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[ liv ]        v. 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生存； 活着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.live , liv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living: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活着的，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dj                  live:  adj,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有生命力的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ing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鱼   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a live fish: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一条活蹦乱跳的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67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179280" y="146160"/>
            <a:ext cx="7578720" cy="106884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2) I didn't know we were going to take live animals with us, Sir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先生，我（刚才）不知道咱们要带活动物随行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2560" y="1773360"/>
            <a:ext cx="698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o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时还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 didn't know …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说话前不知道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注意语境产生的区别，有时说汉语，听不出差异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116000" y="3789360"/>
            <a:ext cx="763272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例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on‘t know who he i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不知道他是何人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还不知道）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I didn’t know who he was.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我（刚才）不知道他是何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现在已知道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304920" y="2057400"/>
            <a:ext cx="9144000" cy="8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provide sb. with sth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“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给某人提供某物”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(=provide sth. for sb.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4920" y="335268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9900"/>
                </a:solidFill>
                <a:latin typeface="Monotype Corsiva"/>
              </a:rPr>
              <a:t>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the children ____ books. 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     </a:t>
            </a:r>
            <a:r>
              <a:rPr b="0" lang="en-US" sz="3200" spc="-1" strike="noStrike">
                <a:solidFill>
                  <a:srgbClr val="003300"/>
                </a:solidFill>
                <a:latin typeface="Monotype Corsiva"/>
              </a:rPr>
              <a:t>The school provided books ___ the childr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410800" y="3124080"/>
            <a:ext cx="100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i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648680" y="380988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219320" y="4800600"/>
            <a:ext cx="6781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同义：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supply sb with sth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= supply sth  to / for s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water/electricity su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04920" y="304920"/>
            <a:ext cx="91440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otherwise      adv.</a:t>
            </a:r>
            <a:r>
              <a:rPr b="0" lang="zh-CN" sz="3200" spc="-1" strike="noStrike">
                <a:solidFill>
                  <a:srgbClr val="003300"/>
                </a:solidFill>
                <a:latin typeface="Times New Roman"/>
              </a:rPr>
              <a:t>否则；要不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throw away    (</a:t>
            </a:r>
            <a:r>
              <a:rPr b="0" lang="zh-CN" sz="3200" spc="-1" strike="noStrike">
                <a:solidFill>
                  <a:srgbClr val="0000ff"/>
                </a:solidFill>
                <a:latin typeface="Times New Roman"/>
              </a:rPr>
              <a:t>及物动词）扔掉；抛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ahoma"/>
              </a:rPr>
              <a:t>Definition 3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ahoma"/>
              </a:rPr>
              <a:t>To a great degree; especially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981080" y="3886200"/>
            <a:ext cx="5334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3300"/>
                </a:solidFill>
                <a:latin typeface="Verdana"/>
              </a:rPr>
              <a:t>particularly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468360" y="115920"/>
            <a:ext cx="7176960" cy="15562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(3) It is not worth taking many vegetables. They quickly go bad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带这么多蔬菜不值，因为蔬菜易烂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042920" y="184140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 doing /sth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03280" y="264960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e book is worth reading.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这本书值得一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31880" y="3857760"/>
            <a:ext cx="632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sth.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，佩得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5280" y="4809960"/>
            <a:ext cx="655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worthy of being done = be worthy to be don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值得一做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68360" y="1539720"/>
            <a:ext cx="26654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orth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Pric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Valuel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nvaluab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03640" y="2106720"/>
            <a:ext cx="374364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没价值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无价的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/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非常宝贵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843280" y="1916280"/>
            <a:ext cx="2160360" cy="576000"/>
          </a:xfrm>
          <a:prstGeom prst="line">
            <a:avLst/>
          </a:prstGeom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556000" y="2491920"/>
            <a:ext cx="2520720" cy="10810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56000" y="2709720"/>
            <a:ext cx="2520720" cy="115092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771640" y="3860280"/>
            <a:ext cx="2305080" cy="576360"/>
          </a:xfrm>
          <a:prstGeom prst="line">
            <a:avLst/>
          </a:prstGeom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900000" y="26676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Guess the meaning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4. They usually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go bad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 as soon as we are at sea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914040" y="4114800"/>
            <a:ext cx="76201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went whit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ith anger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Her hair'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going grey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"/>
          <p:cNvSpPr/>
          <p:nvPr/>
        </p:nvSpPr>
        <p:spPr>
          <a:xfrm>
            <a:off x="3048120" y="1295280"/>
            <a:ext cx="6095880" cy="2438640"/>
          </a:xfrm>
          <a:prstGeom prst="wedgeEllipseCallout">
            <a:avLst>
              <a:gd name="adj1" fmla="val 5050"/>
              <a:gd name="adj2" fmla="val -80337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系动词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go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可与形容词连用，表示“变得，成为”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相当于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turn, become, ge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-40320" y="5638680"/>
            <a:ext cx="86511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宋体"/>
              </a:rPr>
              <a:t>go/become hungry/ mad/wrong/str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387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5. They usually go bad as soon as we are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at sea</a:t>
            </a:r>
            <a:r>
              <a:rPr b="1" lang="zh-CN" sz="4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上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航海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；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at the sea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海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is ship is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 children are playing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at the sea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类似的短语还有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4038480" y="4038480"/>
            <a:ext cx="3276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n fi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t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in hospi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Tahoma"/>
              </a:rPr>
              <a:t>( be )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t w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211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in vinegar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“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                      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（</a:t>
            </a:r>
            <a:r>
              <a:rPr b="0" lang="zh-CN" sz="5400" spc="-1" strike="noStrike">
                <a:solidFill>
                  <a:srgbClr val="0000ff"/>
                </a:solidFill>
                <a:latin typeface="Times New Roman"/>
              </a:rPr>
              <a:t>in 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   prep.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用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------</a:t>
            </a: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材料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33520" y="2362320"/>
            <a:ext cx="80769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ink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用墨水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this way 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以这种方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in a low voice</a:t>
            </a:r>
            <a:r>
              <a:rPr b="0" lang="zh-CN" sz="4400" spc="-1" strike="noStrike">
                <a:solidFill>
                  <a:srgbClr val="003300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低声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5029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“ </a:t>
            </a:r>
            <a:r>
              <a:rPr b="0" lang="zh-CN" sz="4800" spc="-1" strike="noStrike">
                <a:solidFill>
                  <a:srgbClr val="003300"/>
                </a:solidFill>
                <a:latin typeface="Times New Roman"/>
              </a:rPr>
              <a:t>keep + sb. + adj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.”   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使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保持</a:t>
            </a:r>
            <a:r>
              <a:rPr b="0" lang="zh-CN" sz="3600" spc="-1" strike="noStrike">
                <a:solidFill>
                  <a:srgbClr val="003300"/>
                </a:solidFill>
                <a:latin typeface="Times New Roman"/>
              </a:rPr>
              <a:t>-----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463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6. Have you </a:t>
            </a:r>
            <a:r>
              <a:rPr b="1" i="1" lang="zh-CN" sz="3600" spc="-1" strike="noStrike">
                <a:solidFill>
                  <a:srgbClr val="ff3300"/>
                </a:solidFill>
                <a:latin typeface="Tahoma"/>
              </a:rPr>
              <a:t>decided</a:t>
            </a:r>
            <a:r>
              <a:rPr b="1" lang="zh-CN" sz="3600" spc="-1" strike="noStrike">
                <a:solidFill>
                  <a:srgbClr val="000000"/>
                </a:solidFill>
                <a:latin typeface="Tahoma"/>
              </a:rPr>
              <a:t> which boat to take, sir?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She didn’t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what to do then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They have </a:t>
            </a:r>
            <a:r>
              <a:rPr b="1" i="1" lang="zh-CN" sz="3200" spc="-1" strike="noStrike">
                <a:solidFill>
                  <a:srgbClr val="ff3300"/>
                </a:solidFill>
                <a:latin typeface="Arial"/>
              </a:rPr>
              <a:t>decided o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building a school ther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意思相近的短语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5029200" y="3048120"/>
            <a:ext cx="3809880" cy="838080"/>
          </a:xfrm>
          <a:prstGeom prst="wedgeEllipseCallout">
            <a:avLst>
              <a:gd name="adj1" fmla="val -50125"/>
              <a:gd name="adj2" fmla="val -92615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后可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on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介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666880" y="403848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ake up one’s mind(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e determined to 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5562720"/>
            <a:ext cx="9144000" cy="181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would do 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表示过去习惯动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799"/>
              </a:spcBef>
              <a:buClr>
                <a:srgbClr val="000099"/>
              </a:buClr>
              <a:buSzPct val="6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  <a:ea typeface="宋体"/>
              </a:rPr>
              <a:t>e.g: She would sit like that for hou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7. It is a good, strong ship, </a:t>
            </a:r>
            <a:r>
              <a:rPr b="1" i="1" lang="zh-CN" sz="4400" spc="-1" strike="noStrike">
                <a:solidFill>
                  <a:srgbClr val="ff3300"/>
                </a:solidFill>
                <a:latin typeface="Tahoma"/>
              </a:rPr>
              <a:t>though</a:t>
            </a:r>
            <a:r>
              <a:rPr b="1" i="1" lang="zh-CN" sz="4400" spc="-1" strike="noStrike">
                <a:solidFill>
                  <a:srgbClr val="000000"/>
                </a:solidFill>
                <a:latin typeface="Tahoma"/>
              </a:rPr>
              <a:t> not very fast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762120" y="1904760"/>
            <a:ext cx="7619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连词</a:t>
            </a:r>
            <a:r>
              <a:rPr b="1" i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引导的让步状语从句中的主语与主句中的主语相同时，可以略去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though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后面的主语和谓语中的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e</a:t>
            </a:r>
            <a:r>
              <a:rPr b="1" i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动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She knows a lot of things </a:t>
            </a: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ugh</a:t>
            </a:r>
            <a:r>
              <a:rPr b="1" lang="zh-CN" sz="3600" spc="-1" strike="noStrike">
                <a:solidFill>
                  <a:srgbClr val="c7c7d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very young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Though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short of money,  they were determined to continue with their project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8. I </a:t>
            </a:r>
            <a:r>
              <a:rPr b="1" i="1" lang="zh-CN" sz="3200" spc="-1" strike="noStrike">
                <a:solidFill>
                  <a:srgbClr val="ff3300"/>
                </a:solidFill>
                <a:latin typeface="Tahoma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ahoma"/>
              </a:rPr>
              <a:t> taking a lot of vinegar.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+ doing/n./that sb.</a:t>
            </a:r>
            <a:r>
              <a:rPr b="1" lang="zh-CN" sz="3200" spc="-1" strike="noStrike">
                <a:solidFill>
                  <a:srgbClr val="ff3300"/>
                </a:solidFill>
                <a:latin typeface="Tahoma"/>
              </a:rPr>
              <a:t> should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  do…      </a:t>
            </a:r>
            <a:br>
              <a:rPr sz="3200"/>
            </a:b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uggest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：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show </a:t>
            </a:r>
            <a:r>
              <a:rPr b="0" lang="zh-CN" sz="3200" spc="-1" strike="noStrike">
                <a:solidFill>
                  <a:srgbClr val="0033cc"/>
                </a:solidFill>
                <a:latin typeface="Tahoma"/>
              </a:rPr>
              <a:t>（ 不虚拟）</a:t>
            </a:r>
            <a:br>
              <a:rPr sz="3200"/>
            </a:b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6212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I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 bringing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eting to an end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The teacher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w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(should) attend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the medical conferenc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His pale face </a:t>
            </a:r>
            <a:r>
              <a:rPr b="1" i="1" lang="zh-CN" sz="3200" spc="-1" strike="noStrike">
                <a:solidFill>
                  <a:srgbClr val="ff3300"/>
                </a:solidFill>
                <a:latin typeface="Arial Narrow"/>
              </a:rPr>
              <a:t>suggested that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he </a:t>
            </a:r>
            <a:r>
              <a:rPr b="1" i="1" lang="zh-CN" sz="3200" spc="-1" strike="noStrike" u="sng">
                <a:solidFill>
                  <a:srgbClr val="ff3300"/>
                </a:solidFill>
                <a:uFillTx/>
                <a:latin typeface="Arial Narrow"/>
              </a:rPr>
              <a:t>was</a:t>
            </a:r>
            <a:r>
              <a:rPr b="1" lang="zh-CN" sz="3200" spc="-1" strike="noStrike">
                <a:solidFill>
                  <a:srgbClr val="000000"/>
                </a:solidFill>
                <a:latin typeface="Arial Narrow"/>
              </a:rPr>
              <a:t> in poor health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2514600" y="4952880"/>
            <a:ext cx="5715000" cy="1828800"/>
          </a:xfrm>
          <a:prstGeom prst="wedgeEllipseCallout">
            <a:avLst>
              <a:gd name="adj1" fmla="val -18416"/>
              <a:gd name="adj2" fmla="val -81162"/>
            </a:avLst>
          </a:prstGeom>
          <a:solidFill>
            <a:srgbClr val="66ff3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uggest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表“暗示”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(show)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从句用陈述语气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15238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※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vinegar 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84000" y="2286000"/>
            <a:ext cx="7404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= </a:t>
            </a:r>
            <a:r>
              <a:rPr b="0" lang="zh-CN" sz="4800" spc="-1" strike="noStrike">
                <a:solidFill>
                  <a:srgbClr val="0000ff"/>
                </a:solidFill>
                <a:latin typeface="Times New Roman"/>
              </a:rPr>
              <a:t>Why (do we) take vinegar </a:t>
            </a:r>
            <a:r>
              <a:rPr b="0" lang="zh-CN" sz="4400" spc="-1" strike="noStrike">
                <a:solidFill>
                  <a:srgbClr val="0000ff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0" y="3276720"/>
            <a:ext cx="9144000" cy="141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※ 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use sth for doing sth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                               “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使用某物去做某事”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7960" y="4495680"/>
            <a:ext cx="8036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 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被动</a:t>
            </a:r>
            <a:r>
              <a:rPr b="0" lang="zh-CN" sz="4000" spc="-1" strike="noStrike">
                <a:solidFill>
                  <a:srgbClr val="003300"/>
                </a:solidFill>
                <a:latin typeface="Times New Roman"/>
              </a:rPr>
              <a:t>:</a:t>
            </a:r>
            <a:r>
              <a:rPr b="0" lang="zh-CN" sz="5400" spc="-1" strike="noStrike">
                <a:solidFill>
                  <a:srgbClr val="003300"/>
                </a:solidFill>
                <a:latin typeface="Times New Roman"/>
              </a:rPr>
              <a:t>sth be used for doing sth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ahoma"/>
              </a:rPr>
              <a:t>9. leaving at 7 a.m.</a:t>
            </a:r>
            <a:r>
              <a:rPr b="1" i="1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1" i="1" lang="en-US" sz="4400" spc="-1" strike="noStrike">
                <a:solidFill>
                  <a:srgbClr val="ff3300"/>
                </a:solidFill>
                <a:latin typeface="Tahoma"/>
              </a:rPr>
              <a:t>sharp</a:t>
            </a:r>
            <a:br>
              <a:rPr sz="4400"/>
            </a:br>
            <a:r>
              <a:rPr b="0" lang="en-US" sz="4400" spc="-1" strike="noStrike">
                <a:solidFill>
                  <a:srgbClr val="0033cc"/>
                </a:solidFill>
                <a:latin typeface="Tahoma"/>
              </a:rPr>
              <a:t>adv.(exactly at the stated time)</a:t>
            </a:r>
            <a:br>
              <a:rPr sz="4400"/>
            </a:b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762120" y="2819160"/>
            <a:ext cx="761976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sharp  </a:t>
            </a:r>
            <a:r>
              <a:rPr b="1" i="1" lang="zh-CN" sz="2800" spc="-1" strike="noStrike">
                <a:solidFill>
                  <a:srgbClr val="000000"/>
                </a:solidFill>
                <a:latin typeface="Tahoma"/>
              </a:rPr>
              <a:t>adv.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指时间“几点整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The train arrives at 4 p.m. </a:t>
            </a:r>
            <a:r>
              <a:rPr b="1" i="1" lang="zh-CN" sz="2800" spc="-1" strike="noStrike">
                <a:solidFill>
                  <a:srgbClr val="ff3300"/>
                </a:solidFill>
                <a:latin typeface="Tahoma"/>
                <a:ea typeface="华文新魏"/>
              </a:rPr>
              <a:t>sharp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  <a:ea typeface="华文新魏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93824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457200" y="3124080"/>
            <a:ext cx="152388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286000" y="3200400"/>
            <a:ext cx="38862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all ill ,fever, sick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553080" y="3200400"/>
            <a:ext cx="228600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ve anima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6172200"/>
            <a:ext cx="2361960" cy="581400"/>
          </a:xfrm>
          <a:prstGeom prst="rect">
            <a:avLst/>
          </a:prstGeom>
          <a:solidFill>
            <a:srgbClr val="00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ter(of be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24000" y="115920"/>
            <a:ext cx="882000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all ill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生病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=fall si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suffer fever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发烧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be at sea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海上（航行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throw away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扔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provide sb with sth=provide sth to sb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提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go bad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（食物）变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for stores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供储存用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store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存储备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in the store (s) 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在库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65800" y="189000"/>
            <a:ext cx="295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66"/>
                </a:solidFill>
                <a:latin typeface="Comic Sans MS"/>
              </a:rPr>
              <a:t>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611280" y="681120"/>
            <a:ext cx="7705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).   Milk is easy to ________ bad in summer.                               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. turn     B. go     C. be    D. beco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00000" y="2734560"/>
            <a:ext cx="7848720" cy="350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bad,  go wrong ,  go mad,  go hungry ,  go deaf ,  go blind,  go dry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固定搭配。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go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为动态动词，表示状态的变化。还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become,  grow,  get,  turn,  fall,  com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还有一类表示状态存在的静态系动词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有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seem,  appear,  look,  feel,  smell,  sound,  taste,  keep,  remain,  continue,  stay,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prove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等。   故选答案</a:t>
            </a:r>
            <a:r>
              <a:rPr b="0" lang="zh-CN" sz="3200" spc="-1" strike="noStrike">
                <a:solidFill>
                  <a:srgbClr val="660066"/>
                </a:solidFill>
                <a:latin typeface="Comic Sans MS"/>
              </a:rPr>
              <a:t>B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1" name="" descr="t.gif (13807 bytes)"/>
          <p:cNvPicPr/>
          <p:nvPr/>
        </p:nvPicPr>
        <p:blipFill>
          <a:blip r:embed="rId2"/>
          <a:stretch/>
        </p:blipFill>
        <p:spPr>
          <a:xfrm>
            <a:off x="2787480" y="1908000"/>
            <a:ext cx="704880" cy="44136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611280" y="1159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66"/>
                </a:solidFill>
                <a:latin typeface="Comic Sans MS"/>
              </a:rPr>
              <a:t>Choose the best answer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84360" y="2997360"/>
            <a:ext cx="755964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6920" y="3500280"/>
            <a:ext cx="5257800" cy="0"/>
          </a:xfrm>
          <a:prstGeom prst="line">
            <a:avLst/>
          </a:prstGeom>
          <a:ln w="381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108000" y="447120"/>
            <a:ext cx="799308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buClr>
                <a:srgbClr val="00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The problem ________ unsolved until    last year.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kept    B. stay    C. remained    D. w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2) His face ________red at o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went    B. grew  C. turned   D. look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3) The moment he went to bed,  he________ asleep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go    B. fell    C. was    D. fa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6" name="" descr="t.gif (13807 bytes)"/>
          <p:cNvPicPr/>
          <p:nvPr/>
        </p:nvPicPr>
        <p:blipFill>
          <a:blip r:embed="rId2"/>
          <a:stretch/>
        </p:blipFill>
        <p:spPr>
          <a:xfrm>
            <a:off x="3780000" y="170028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t.gif (13807 bytes)"/>
          <p:cNvPicPr/>
          <p:nvPr/>
        </p:nvPicPr>
        <p:blipFill>
          <a:blip r:embed="rId3"/>
          <a:stretch/>
        </p:blipFill>
        <p:spPr>
          <a:xfrm>
            <a:off x="3938760" y="3203640"/>
            <a:ext cx="704520" cy="441360"/>
          </a:xfrm>
          <a:prstGeom prst="rect">
            <a:avLst/>
          </a:prstGeom>
          <a:ln w="0">
            <a:noFill/>
          </a:ln>
        </p:spPr>
      </p:pic>
      <p:pic>
        <p:nvPicPr>
          <p:cNvPr id="308" name="" descr="t.gif (13807 bytes)"/>
          <p:cNvPicPr/>
          <p:nvPr/>
        </p:nvPicPr>
        <p:blipFill>
          <a:blip r:embed="rId4"/>
          <a:stretch/>
        </p:blipFill>
        <p:spPr>
          <a:xfrm>
            <a:off x="6027840" y="514836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6600" y="547920"/>
            <a:ext cx="77817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4)   That is a ________fish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5)  They are going to give ______ broadcast while the football game is 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　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fe    B. living    C. alive   D. 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(6) The general was caught ______ in the war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A. live   B. alive    C. life    D. li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" descr="t.gif (13807 bytes)"/>
          <p:cNvPicPr/>
          <p:nvPr/>
        </p:nvPicPr>
        <p:blipFill>
          <a:blip r:embed="rId2"/>
          <a:stretch/>
        </p:blipFill>
        <p:spPr>
          <a:xfrm>
            <a:off x="1274760" y="1125360"/>
            <a:ext cx="704880" cy="441360"/>
          </a:xfrm>
          <a:prstGeom prst="rect">
            <a:avLst/>
          </a:prstGeom>
          <a:ln w="0">
            <a:noFill/>
          </a:ln>
        </p:spPr>
      </p:pic>
      <p:pic>
        <p:nvPicPr>
          <p:cNvPr id="311" name="" descr="t.gif (13807 bytes)"/>
          <p:cNvPicPr/>
          <p:nvPr/>
        </p:nvPicPr>
        <p:blipFill>
          <a:blip r:embed="rId3"/>
          <a:stretch/>
        </p:blipFill>
        <p:spPr>
          <a:xfrm>
            <a:off x="6746760" y="3059280"/>
            <a:ext cx="704880" cy="441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t.gif (13807 bytes)"/>
          <p:cNvPicPr/>
          <p:nvPr/>
        </p:nvPicPr>
        <p:blipFill>
          <a:blip r:embed="rId4"/>
          <a:stretch/>
        </p:blipFill>
        <p:spPr>
          <a:xfrm>
            <a:off x="2627280" y="5003640"/>
            <a:ext cx="70488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0" y="0"/>
            <a:ext cx="8839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28600" y="-76320"/>
            <a:ext cx="8763120" cy="64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Step 7 Listen and fill in the blank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aptain Cook is___________for a great ___________to the Pacific.He is now telling a ________what_______he has to______. Cook _______on taking some______animals because they can eat the food which would be ___________ and ___________them with eggs and meat.He has decided to take lots of cabbage ___vinegar in order to__________them _________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He also suggests________300 litres of vinegar for__________the______of the ship to protect them_______________sicknes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581280" y="60948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epa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0880" y="114300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ped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880" y="160020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ea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19520" y="160020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791320" y="167652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80880" y="205740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s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495680" y="213372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l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28600" y="3048120"/>
            <a:ext cx="3124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rown a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7600" y="31240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80880" y="4038480"/>
            <a:ext cx="609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572000" y="403848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ke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09480" y="457200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657600" y="52578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ak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14400" y="579132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lea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29000" y="5791320"/>
            <a:ext cx="2133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7920" y="6248520"/>
            <a:ext cx="350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from /again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80880" y="762120"/>
            <a:ext cx="8153640" cy="43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art 2 , page 7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Step 8  Homework            Do Ex2&amp;3 on p149 in the W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0" y="457200"/>
            <a:ext cx="8763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00"/>
                </a:solidFill>
                <a:latin typeface="Times New Roman"/>
              </a:rPr>
              <a:t>Ex. 2 , Page 77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371600" y="1371600"/>
            <a:ext cx="3276720" cy="500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sto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insis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live / liv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prov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fev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healt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60000"/>
              </a:lnSpc>
              <a:spcBef>
                <a:spcPts val="2750"/>
              </a:spcBef>
              <a:buClr>
                <a:srgbClr val="ff33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thoug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257800" y="1295280"/>
            <a:ext cx="3429000" cy="498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8. suggeste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9. has falle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0. fr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1. roo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2. leavi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3. tak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14. lit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57200" y="457200"/>
            <a:ext cx="746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x. 3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28600" y="1066680"/>
            <a:ext cx="8915400" cy="50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going to Tianjin by trai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eating dry food and drinking rain wat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storing plenty of sugar and sal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cleaning the inside of the shi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0000ff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</a:rPr>
              <a:t>to go to Hangzhou instead of Dalian for my holida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500"/>
              </a:spcBef>
              <a:buClr>
                <a:srgbClr val="ff33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Times New Roman"/>
              </a:rPr>
              <a:t>to join us in this expedition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50920" y="289080"/>
            <a:ext cx="8748720" cy="2574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( 1 ) insi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解作‘坚决要求’， 即指说话者的要求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力说’，‘坚持认为’，即指说话者的‘看法’或‘事实’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640" y="3068640"/>
            <a:ext cx="7993080" cy="2025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）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suggest </a:t>
            </a: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作‘建议’解时，其宾语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虚拟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omic Sans MS"/>
              </a:rPr>
              <a:t>如解作‘暗示’，‘表明’解时，其从句用</a:t>
            </a:r>
            <a:r>
              <a:rPr b="1" lang="zh-CN" sz="3600" spc="-1" strike="noStrike">
                <a:solidFill>
                  <a:srgbClr val="ff3300"/>
                </a:solidFill>
                <a:latin typeface="Comic Sans MS"/>
              </a:rPr>
              <a:t>陈述语气</a:t>
            </a:r>
            <a:r>
              <a:rPr b="1" lang="zh-CN" sz="3600" spc="-1" strike="noStrike">
                <a:solidFill>
                  <a:srgbClr val="660066"/>
                </a:solidFill>
                <a:latin typeface="Comic Sans MS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>
            <a:hlinkClick r:id="rId2" action="ppaction://hlinksldjump"/>
          </p:cNvPr>
          <p:cNvSpPr/>
          <p:nvPr/>
        </p:nvSpPr>
        <p:spPr>
          <a:xfrm>
            <a:off x="8532720" y="6165720"/>
            <a:ext cx="503280" cy="576360"/>
          </a:xfrm>
          <a:prstGeom prst="ellipse">
            <a:avLst/>
          </a:prstGeom>
          <a:solidFill>
            <a:srgbClr val="a7cc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7.gif (2841 bytes)"/>
          <p:cNvPicPr/>
          <p:nvPr/>
        </p:nvPicPr>
        <p:blipFill>
          <a:blip r:embed="rId3"/>
          <a:stretch/>
        </p:blipFill>
        <p:spPr>
          <a:xfrm>
            <a:off x="539640" y="404640"/>
            <a:ext cx="473040" cy="420840"/>
          </a:xfrm>
          <a:prstGeom prst="rect">
            <a:avLst/>
          </a:prstGeom>
          <a:ln w="0">
            <a:noFill/>
          </a:ln>
        </p:spPr>
      </p:pic>
      <p:pic>
        <p:nvPicPr>
          <p:cNvPr id="341" name="" descr="26.gif (1643 bytes)"/>
          <p:cNvPicPr/>
          <p:nvPr/>
        </p:nvPicPr>
        <p:blipFill>
          <a:blip r:embed="rId4"/>
          <a:stretch/>
        </p:blipFill>
        <p:spPr>
          <a:xfrm>
            <a:off x="108000" y="2997360"/>
            <a:ext cx="792000" cy="63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057400" y="2590920"/>
            <a:ext cx="556272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0000"/>
                  </a:solidFill>
                  <a:prstDash val="dash"/>
                  <a:miter/>
                </a:ln>
                <a:solidFill>
                  <a:srgbClr val="ff6600"/>
                </a:solidFill>
                <a:latin typeface="宋体"/>
              </a:rPr>
              <a:t>Good - bye  !</a:t>
            </a:r>
            <a:endParaRPr b="0" lang="en-US" sz="2400" spc="1" strike="noStrike">
              <a:ln w="9360">
                <a:solidFill>
                  <a:srgbClr val="ff0000"/>
                </a:solidFill>
                <a:prstDash val="dash"/>
                <a:miter/>
              </a:ln>
              <a:solidFill>
                <a:srgbClr val="ff66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a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ly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ing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liv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They often make experiments on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Microsoft Sans Serif"/>
              </a:rPr>
              <a:t>live</a:t>
            </a:r>
            <a:r>
              <a:rPr b="0" lang="zh-CN" sz="3200" spc="-1" strike="noStrike">
                <a:solidFill>
                  <a:srgbClr val="000000"/>
                </a:solidFill>
                <a:latin typeface="Microsoft Sans Serif"/>
              </a:rPr>
              <a:t> animals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MP00640_" descr=""/>
          <p:cNvPicPr/>
          <p:nvPr/>
        </p:nvPicPr>
        <p:blipFill>
          <a:blip r:embed="rId3"/>
          <a:stretch/>
        </p:blipFill>
        <p:spPr>
          <a:xfrm>
            <a:off x="4419720" y="2590920"/>
            <a:ext cx="903240" cy="90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en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beginning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autumn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wint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She and her family went to the United States in the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fall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of 1996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BD06675_" descr=""/>
          <p:cNvPicPr/>
          <p:nvPr/>
        </p:nvPicPr>
        <p:blipFill>
          <a:blip r:embed="rId5"/>
          <a:stretch/>
        </p:blipFill>
        <p:spPr>
          <a:xfrm>
            <a:off x="1295280" y="3124080"/>
            <a:ext cx="86220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a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fel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met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i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The company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suffered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a heavy loss as a result of the acciden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AN01124_" descr=""/>
          <p:cNvPicPr/>
          <p:nvPr/>
        </p:nvPicPr>
        <p:blipFill>
          <a:blip r:embed="rId4"/>
          <a:stretch/>
        </p:blipFill>
        <p:spPr>
          <a:xfrm>
            <a:off x="1066680" y="2514600"/>
            <a:ext cx="955800" cy="116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ahoma"/>
              </a:rPr>
              <a:t>Which word means the same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However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Or el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In another way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Unl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Do it now. </a:t>
            </a:r>
            <a:r>
              <a:rPr b="0" lang="zh-CN" sz="3200" spc="-1" strike="noStrike" u="sng">
                <a:solidFill>
                  <a:srgbClr val="000000"/>
                </a:solidFill>
                <a:uFillTx/>
                <a:latin typeface="Tahoma"/>
              </a:rPr>
              <a:t>Otherwise</a:t>
            </a:r>
            <a:r>
              <a:rPr b="0" lang="zh-CN" sz="3200" spc="-1" strike="noStrike">
                <a:solidFill>
                  <a:srgbClr val="000000"/>
                </a:solidFill>
                <a:latin typeface="Tahoma"/>
              </a:rPr>
              <a:t> it will be too late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BD04918_" descr=""/>
          <p:cNvPicPr/>
          <p:nvPr/>
        </p:nvPicPr>
        <p:blipFill>
          <a:blip r:embed="rId5"/>
          <a:stretch/>
        </p:blipFill>
        <p:spPr>
          <a:xfrm>
            <a:off x="5943600" y="1905120"/>
            <a:ext cx="83664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6T01:30:17Z</dcterms:created>
  <dc:creator>DARK-Angel</dc:creator>
  <dc:description/>
  <dc:language>en-US</dc:language>
  <cp:lastModifiedBy>w</cp:lastModifiedBy>
  <dcterms:modified xsi:type="dcterms:W3CDTF">2004-08-03T15:45:51Z</dcterms:modified>
  <cp:revision>78</cp:revision>
  <dc:subject/>
  <dc:title>PowerPoint 演示文稿</dc:title>
</cp:coreProperties>
</file>